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9621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5D6-790D-4D9A-A993-62FC7FE93FE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469-A70C-419E-965C-9F3D9BFF70D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BB3-CE35-4A9A-9CCC-DE0A6506F769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2229-9609-4FFC-95F8-2C99EA5E8EB8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37D-B0F8-42DB-BED8-5A087D0854C3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AD7B-8754-4B7B-9F4E-DB411CC611B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B6F-E6B1-489A-8A03-006DC1FD9C6E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194-DA23-411A-B5F3-CB5A7E777B17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A5B-5C5F-411C-AACC-37D169B8F8B0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C71-A19B-42B4-AC2F-BC2FE3FAD29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A79-DDB5-431F-81E3-BCAB8704E80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7153-9943-4BA8-84BB-52BB30D82CF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6C7-1DE7-421D-A236-F3D36F37B619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061-75EB-440B-84F1-A827CD28B47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9FD-14F7-415B-A074-237525182B83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E075-6631-47C9-BBCB-3F54056FA1EF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83B-BCEB-4C3F-AC40-6D6230631FC9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18F-C1C4-45DC-8EB9-EF4405472F5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81C-037E-4171-8F8F-B841E60818C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8CC-AAA6-49EB-8C16-EF2AED49A39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1EC-85FA-4107-9389-C51E7F824E0E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301-1935-4394-96C4-22A1C091A558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8595-9E71-4CFC-9E5F-FA4FDF56B37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72B6-6F17-4E72-89D6-C9FD91A495B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E303-E03B-4002-B76E-85028063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C705-B0A8-4551-A95D-295177E19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A917-ECEA-4980-80FD-549C7C293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3C62-3267-4686-8CD7-4AE7513C8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EC36-1C0C-4351-98D7-71733928E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DD7E-46DF-4285-AA52-10EC80008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21AD-1457-4B39-B718-6611F7D23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7BCE-DA3C-40A8-A37A-6FD394002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FC1B-D262-4CCF-BAA8-4032AEFC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0651-E46B-4E1A-92E3-0FFF42BC5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0B36-EF45-4DC0-89E6-01CB73D62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C4A8-329D-40E9-965E-2A166D5F4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72040" indent="-21996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79840" indent="-1756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31920" indent="-1756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8576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8580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D32-48BA-49AE-BAB6-8C2F0FF0E378}" type="slidenum"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72040" indent="-21996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79840" indent="-1756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31920" indent="-1756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y - definition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92200" y="1905120"/>
            <a:ext cx="78660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study of interactions betwee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rganisms and their 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7360" y="914400"/>
            <a:ext cx="348156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What is ecology?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65200" y="2286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85800" y="990720"/>
            <a:ext cx="205740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the place where an organism live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pond for a beaver; tree for bark insect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34" name="Picture 14" descr="C02-07P lily pads"/>
          <p:cNvPicPr/>
          <p:nvPr/>
        </p:nvPicPr>
        <p:blipFill>
          <a:blip r:embed="rId1"/>
          <a:stretch/>
        </p:blipFill>
        <p:spPr>
          <a:xfrm>
            <a:off x="3124080" y="1828800"/>
            <a:ext cx="4876920" cy="382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33520" y="16416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abitats can change, and even disappear.  Habitats can change due to both natural and human cause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38" name="Picture 15" descr="log habitat"/>
          <p:cNvPicPr/>
          <p:nvPr/>
        </p:nvPicPr>
        <p:blipFill>
          <a:blip r:embed="rId1"/>
          <a:stretch/>
        </p:blipFill>
        <p:spPr>
          <a:xfrm>
            <a:off x="1676520" y="3124080"/>
            <a:ext cx="5790960" cy="278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33520" y="2133720"/>
            <a:ext cx="79246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he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role or position a species has in its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  (job)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owls control rodent  population at nigh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520" y="17175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 A relationship in which there is a close, permanent association between organisms of  different specie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33520" y="40384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ymbiosis means living together.  Three kinds of symbiosis are recognized: mutualism, commensalism, and parasitism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1676520"/>
            <a:ext cx="26668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utualism: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oth species benefit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bacteria i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ur gu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49" name="Picture 5" descr="mutualism"/>
          <p:cNvPicPr/>
          <p:nvPr/>
        </p:nvPicPr>
        <p:blipFill>
          <a:blip r:embed="rId1"/>
          <a:stretch/>
        </p:blipFill>
        <p:spPr>
          <a:xfrm>
            <a:off x="3505320" y="1587600"/>
            <a:ext cx="5181480" cy="34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495680" y="1600200"/>
            <a:ext cx="33530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mmensalism: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one species benefits and the other species is unaffected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barnacles o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whale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53" name="Picture 5" descr="Spanish moss on trees"/>
          <p:cNvPicPr/>
          <p:nvPr/>
        </p:nvPicPr>
        <p:blipFill>
          <a:blip r:embed="rId1"/>
          <a:stretch/>
        </p:blipFill>
        <p:spPr>
          <a:xfrm>
            <a:off x="762120" y="16002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1981080"/>
            <a:ext cx="79246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arasitism: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ne species benefits and another is harmed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33520" y="16416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arasites have evolved in such a way that they harm, but usually do not kill the host species.  Ex:  tapeworm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60" name="Picture 5" descr="C02-08P tapeworm"/>
          <p:cNvPicPr/>
          <p:nvPr/>
        </p:nvPicPr>
        <p:blipFill>
          <a:blip r:embed="rId1"/>
          <a:stretch/>
        </p:blipFill>
        <p:spPr>
          <a:xfrm>
            <a:off x="2286000" y="3048120"/>
            <a:ext cx="449568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1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8760" y="1523880"/>
            <a:ext cx="8375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The study of interactions that take place between organisms and their environment is __________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4000" y="4876920"/>
            <a:ext cx="2027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biology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83640" y="4267080"/>
            <a:ext cx="2050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cology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4360" y="3657600"/>
            <a:ext cx="238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symbiosis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5080" y="3005280"/>
            <a:ext cx="192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abiosis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90400" y="1219320"/>
            <a:ext cx="8020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Ecology is a branch of biology that developed from natural history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92200" y="1905120"/>
            <a:ext cx="786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st ecologists use both qualitative and quantitative research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68080" y="914400"/>
            <a:ext cx="39740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96880" y="3200400"/>
            <a:ext cx="7480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litative information by observing organis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3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58760" y="1698480"/>
            <a:ext cx="8375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hich of the following is a biotic factor?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5440" y="4648320"/>
            <a:ext cx="1527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light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84000" y="3875040"/>
            <a:ext cx="25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arthworm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85800" y="3124080"/>
            <a:ext cx="1550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soil 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84720" y="2441520"/>
            <a:ext cx="220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moisture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19320"/>
            <a:ext cx="8020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Biotic factors are all the living organisms that inhabit an environment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84280" y="8380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4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8760" y="1459080"/>
            <a:ext cx="8375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(n) __________ is a group of organisms, all of the same species, which interbreed and live in the same place at the same time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75360" y="5261040"/>
            <a:ext cx="1992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habitat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40440" y="4487760"/>
            <a:ext cx="255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cosystem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2920" y="3809880"/>
            <a:ext cx="28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population  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80400" y="3127320"/>
            <a:ext cx="447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biological community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B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Communities and ecosystems are comprised of more than one species. Habitat refers to the place an organism lives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88" name="Picture 4" descr="group of antelope"/>
          <p:cNvPicPr/>
          <p:nvPr/>
        </p:nvPicPr>
        <p:blipFill>
          <a:blip r:embed="rId1"/>
          <a:stretch/>
        </p:blipFill>
        <p:spPr>
          <a:xfrm>
            <a:off x="1371600" y="2895480"/>
            <a:ext cx="6172200" cy="276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33520" y="1676520"/>
            <a:ext cx="3200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ntitative data by making measurements and carrying out controlled experiments in the field and in the laboratory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8080" y="914400"/>
            <a:ext cx="39740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95" name="Picture 15" descr="data collection"/>
          <p:cNvPicPr/>
          <p:nvPr/>
        </p:nvPicPr>
        <p:blipFill>
          <a:blip r:embed="rId1"/>
          <a:stretch/>
        </p:blipFill>
        <p:spPr>
          <a:xfrm>
            <a:off x="4038480" y="1898640"/>
            <a:ext cx="4648320" cy="305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2232000"/>
            <a:ext cx="79246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biotic factors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on-living parts of the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92200" y="3657600"/>
            <a:ext cx="78660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 wind, temperature, moisture,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ight, and soil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38080" y="914400"/>
            <a:ext cx="762012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3520" y="21747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cology includes the study of features of the environment that are not living because these features are part of an organism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 life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67360" y="914400"/>
            <a:ext cx="72918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33520" y="37749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biotic factors have obvious effects on living things and often determine which species survive in a particular environment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857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5200" y="380880"/>
            <a:ext cx="7624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living environment: Biotic 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key consideration of ecology is that living organisms affect other living organis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33520" y="299412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 Living organisms in a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plants, animals, fungi, protists,   bacteria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tem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65200" y="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533520" y="16002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system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nteracting populations in a biological community and the community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 abiotic factor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533520" y="3774960"/>
            <a:ext cx="83818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re are two major kinds of ecosystems—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errestrial ecosystems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quatic ecosyste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6640" y="914400"/>
            <a:ext cx="223812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14" name="Picture 15" descr="antelope kudos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xample ecosystems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17" name="Picture 15" descr="Table 2"/>
          <p:cNvPicPr/>
          <p:nvPr/>
        </p:nvPicPr>
        <p:blipFill>
          <a:blip r:embed="rId1"/>
          <a:stretch/>
        </p:blipFill>
        <p:spPr>
          <a:xfrm>
            <a:off x="762120" y="2044800"/>
            <a:ext cx="4724280" cy="36669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1281600" y="1981080"/>
            <a:ext cx="3143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Table 2.1 Examples of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746280" y="2311560"/>
            <a:ext cx="1616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Terrestrial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47000" y="2746440"/>
            <a:ext cx="154908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ores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ld farm fiel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Meadow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Yar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Garden plo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mpty lo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Compost heap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Volcano site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Rotting log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2451240" y="2222640"/>
            <a:ext cx="129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tic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400480" y="2743200"/>
            <a:ext cx="133344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reshwater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Pon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Lake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tream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alt water (marine)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cean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rium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92520" y="22525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ther Sites for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3718080" y="2736720"/>
            <a:ext cx="17683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Human body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Skin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Intestine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uth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uilding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ld in walls, floors, or basement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Ventilation system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athroom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Any moldy food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Refrigerator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762120" y="2730600"/>
            <a:ext cx="1676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62120" y="2273400"/>
            <a:ext cx="167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762120" y="2286000"/>
            <a:ext cx="1676160" cy="3429000"/>
          </a:xfrm>
          <a:prstGeom prst="rect">
            <a:avLst/>
          </a:prstGeom>
          <a:noFill/>
          <a:ln w="76320">
            <a:solidFill>
              <a:srgbClr val="e3f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24:35Z</dcterms:created>
  <dc:creator>Clayton Johns</dc:creator>
  <dc:description/>
  <dc:language>en-US</dc:language>
  <cp:lastModifiedBy>NHS NPS</cp:lastModifiedBy>
  <dcterms:modified xsi:type="dcterms:W3CDTF">2015-10-06T14:49:20Z</dcterms:modified>
  <cp:revision>4</cp:revision>
  <dc:subject>Chapter 2</dc:subject>
  <dc:title>Ecoloy - definition</dc:title>
</cp:coreProperties>
</file>